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95BA-D6B6-4769-9CD5-07A37684C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NBDC N3 Partner Technical Meeting 28-29 March 2011, ILRI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A81-3810-4215-BAC3-B4AFAFE9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3F6-19BA-4F15-A471-25AE4C8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590-4D60-409C-AEAD-4BBC87A9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B53-DE5F-4B3E-974E-B51463B6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20F5-32C6-4D0D-8770-2ACBCB70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AB1D-C523-4B16-BDA1-52EB5E2D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3A8E-DE8A-4107-8335-D50F5315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4E0-1323-425E-876A-34967E9A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80D8-9865-4968-96A1-EB7C9BC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5FC4-D467-4EFB-AC5B-30D131C5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7549-33A9-4F9F-BC9A-55A8BE1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D65-1BFE-4FF4-A9B6-0C5082D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DD4D-87ED-4862-B2C9-4C8FAA87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33B1-A6AA-4F30-AC70-74E40B45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D2CF-C231-420B-9142-83DA57E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1092-8C16-48EC-95A1-EB65C17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13F9-308C-4875-B1D4-36976690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D354-1D74-4D0D-A837-44004FE1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4DAF-5786-4E1D-8E87-BCE6D6F9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78D3-8E9D-468C-A8B5-A6E7C7E8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1972-3145-47D8-9CB5-492CC44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AE1B-8944-4D5E-B176-92A3F5C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42C-D9CB-45C4-BCD5-8B395682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1644-A5C8-4747-88A2-507FC43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FAF03-AE87-4D27-8794-DFF36A7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DC88-392D-4457-9127-788F961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CA0C-18C0-4C64-A286-A97D5681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4E48-17E5-460F-9529-B9AC717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2860-F7B0-42F5-B5A3-CF0CE418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0430-2A05-4D06-9443-52F325D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4F8F-D858-4A86-B6D8-8DFE550E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9B68-BD1C-4B05-BEAA-A1481693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CC45-5967-4494-8488-B057B0D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177-5E77-4B3A-AEED-DD7175A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646A-CA40-43BA-A31F-C5F6F95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80C9-6265-4466-A89B-2EDD2DA6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0611-18B1-4EF3-88FB-784F652D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D93D-1675-4328-BB45-7FD2E19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460F-4A4E-4A42-AD41-54CBF30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05FE-ED51-4970-B805-81BFE6D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7C7C-85F3-4742-949D-CE8EFAB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1CF26-824C-4979-80D6-EE4F257C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25F8-0997-49BB-B915-0222C978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2EFD-247A-4A75-940B-3C84EEE0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965-867C-4134-9ADB-7E7E635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5E749-6868-4738-A95A-9E19A779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C727-70D5-4AE7-AE2C-6FA549AD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A478-6554-4396-9B23-AD0A49EB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8EDA6-716F-481E-8819-A289326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546ED-5581-42B4-955F-A49FFB8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55BF-8E25-42F6-946F-A2F5396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A365-AEA4-4656-A91A-7AEBDCD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0B850-FB9E-499D-926C-20AFE9D9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BE51-E0AB-4EBB-B3F1-B90428F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EEA2-0624-4236-9182-555E4186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C61-4F3E-4681-AAEB-D06E3674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F2818-D636-499F-BD31-1018DC34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D226-7092-4045-AA04-577AE92A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D30C-22A8-459C-BBDB-E9E760E0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C5933-43F7-443C-BAD4-308DA8F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F9D7-EBBC-496A-A0C5-B633493B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E7E6-FC7A-4FE6-B9ED-68AA0D40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70F64-44BA-4BD7-8386-7307E2A5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BA49-35CF-4BFF-AAEF-5D55A2FD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5A2DB-A88B-4058-B179-6C4EF70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05A51-645C-4822-919F-F49F526F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4AD-CE4E-4932-B34D-7CBBCF83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256C7-4780-4512-8AC4-E53CD099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8678-A5BF-4FAB-A8DA-58FF7C98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81D60-386F-481D-BDE6-2DBFA7A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56CD-4BBC-441E-BE57-7C53D07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FC96-49F4-4413-80B6-48EC4F9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C90B-00F6-4573-B317-6C87387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CC78-2034-4668-9CB5-16FE3F2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CD2B8-0C66-4708-BAFE-D81C003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10140-34A9-42EB-AFB3-93FF541B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B5ED-A355-4BF1-B934-EB1BD3E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BDB-DEE2-4191-A6F8-093FD90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1028-BC65-4A91-935B-5A5F43E3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2089-809A-4C59-ADEB-7995574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675B-442F-45EF-8D63-0B456F7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8D14-2C6F-4B10-A483-7FBB58BA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9EDC-70D5-4834-80C6-2836F6E5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E93F-67A9-4E5E-BC79-0C1FC9A6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290A6-CD35-4C73-A23D-74BB983C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3837-8232-4EF2-9DF7-167450E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15410-DD0F-4C7B-84F6-8EBC996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C5CC-F1AA-4FF1-AB95-4641286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87C-07F2-47C3-853F-6F8B7F2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D0B41-A37F-4162-BFF8-1A80975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8CDD0-EA7C-4C2C-90F0-853920A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B063-9DAB-4FC7-A63E-A710913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49854-97BD-4E86-ABF8-3D3A28B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1AC2-F7ED-4CF5-80B2-8C37492D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994CE-AE57-4E48-A343-35EBDF01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A7256-50B4-44E9-8560-B083E6E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4EE6-C75B-4E34-847B-D0F644BC2976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6518-9E91-4A99-B625-762C99E02FD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2AA2-86FA-4341-B5DB-53109496884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EDE-9D4C-4B5D-B90C-7C16A3FF57A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A06F-26E2-4CB0-A829-F050C42145B3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F586-BA9C-4A23-89B5-834EC837834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A158-69B7-45BE-864C-D2EAB9FC5B2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6CA7-0987-483D-B2C4-522FFDE401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DB0-2CBF-43F6-92E7-6CD3D04D473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A149-02C7-4A5F-9A3B-CC5CF95BF41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433-B5ED-4DD8-93D6-3FF8B5F3C2D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9F7-5300-49AC-90CD-4F878C69F62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ACC-3C64-4594-B311-817867A187B0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2776-D22E-40DA-95B4-CDC6697ADB0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D6E9-F745-4700-8A85-155A32D40BF2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E70C-A606-479E-8A0C-FAB80941B74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Bookman Old Style"/>
              </a:rPr>
              <a:t>Amhara Region Agricultural Research Institute (ARAR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y Gizaw Desta (Ph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Conservation agriculture practices – mulching, zero tillage, crop residue, cover crops, green manuring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Testing deficit water management technique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Irrigation water management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Flood prediction and flood control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Agrometeorology and cropping pattern studies, drought and its coping strategie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464653"/>
                </a:solidFill>
                <a:latin typeface="Gill Sans MT"/>
              </a:rPr>
              <a:t>Evapotranspiration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051-DF6A-499C-BFF9-CF8845595BD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How do you decide about the water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related activities?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1341360"/>
            <a:ext cx="8964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hich data do you use?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– generated through informal and formal surv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ainfall (deficit or exces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arming system (less or high water demand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il (WHC, soil depth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cio-economic (capacity of farmers for uptake of technology, preference or demand,  knowledge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do you decide about the location of the activit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xtent of problem or constrain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feasibility of potential impact and demand for adoptio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presentation of wider biophysical, agroecological and socioeconomic sets of conditions or domain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702A-6CEA-4A87-86B0-01039FB329C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24000" y="1218960"/>
            <a:ext cx="864072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an you describe the process that leads to activ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Agricultural problems surveyed (and presented to stakeholder platform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Major researchable issues identified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These issues will be distributed to research centers for project proposal development 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Proposed research activities will be reviewed at department level, followed by research centre level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Research and Partner joint annual research review will be done by involving researchers, university researchers, extension, and NGOs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Gill Sans MT"/>
              </a:rPr>
              <a:t>Annual Research Directory will be developed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AD8A-BE5A-4529-A3FE-6640E7717E0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Do you investigate the impact of the activitie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mpact of activities were not studied very often.  But technical and socio-economic assessments of the activities are investigate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To what extent do you use maps and GI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t is not common to apply Map and GIS tools for many of the research activities as there is lack of input data and knowledge of tool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222D-2B2D-4207-92FE-D726130979A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Who are the partners that ARARI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is working with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older farmers, water user associations, FRE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eau of Agriculture (BoA) or agricultural exten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reau of Water Resources (BOWR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perative agen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d enterprises, private investors, private business processors and enterpri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regional gover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GOs and donors of bilateral &amp; multi-lateral agre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al agricultural colleges and Universit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al, national and international research institu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keholder platforms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8E70-C2D5-409D-93B6-20364A81A2E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How do you disseminate knowledge </a:t>
            </a:r>
            <a:br>
              <a:rPr sz="2900"/>
            </a:b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to these partners 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ticipatory research – Farmer-Research-Extension-Group (FRE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monstrations and pre-scaling up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keholder platforms (ARDPLAC) – developing technology package and popularization through the extension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ining and worksho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eld days and experience vis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hibition of technologies and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blication – Annual progress reports, Proceedings, Journals, Manuals, Posters and Leafl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030D-2E00-4898-89EC-ACC6C0B010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Examples of success stor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f possible illustrate a success story? What were the factors that led to succes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Rainfed Potato production in North Shewa – competing with the barley syst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Rice and vegetable production in Fogera wetlan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road Bed and Furrow (BBF) expansion to vertiso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Village based Menz-Awassi cross breed production in Menz and South Wollo areas – poor crop farming system and immediate benefit gai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BD12-21EF-477E-B501-F5CD3AD4D8B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 you have an examples of projects that were less successful? What were the drivers hampering success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Water harvesting – due to blanket plann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Broad Bed Maker (BBM) – specific to soil and rainfall onset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4058-C242-47E0-B364-328CEF3209E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Gill Sans MT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94F8-5D83-4285-9360-E614ABB66F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Footer Placeholder 5"/>
          <p:cNvSpPr/>
          <p:nvPr/>
        </p:nvSpPr>
        <p:spPr>
          <a:xfrm>
            <a:off x="1619280" y="63086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ARARI Establishment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ed  before 10 years to spearhead the regional research system – some of its research centers established before 25 y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rganized into Five Research Directorate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vestock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il and Wa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estr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icultural Mechanization &amp; Food Sc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730872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6EA-9B8B-4C10-BB02-9D07AF97CAB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Footer Placeholder 5"/>
          <p:cNvSpPr/>
          <p:nvPr/>
        </p:nvSpPr>
        <p:spPr>
          <a:xfrm>
            <a:off x="1692360" y="630864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79246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Five Comprehensive Research centers 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380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   Adet ARC ( Crop, Soil &amp; water,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  Debre Birhan ARC ( Crop, Soil &amp; Water, Livestock &amp;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  Sirinka ARC (Crop, Soil &amp; Water, Livestock &amp; 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  Sekota DLARC (Crop, Soil &amp; Water, Livestock &amp; Forest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)  Gondar ARC (Crop, soil &amp; Water, Livestock &amp; Foerestry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3353-AD6E-4350-AFBD-B7BCCEBE3FA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ree specialized research cent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 Bahir Dar Fishery and other aquatic life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arch cent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Bahir Dar Agricultural Mechanization and F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Science Research cente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Andassa Livestock Research cen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FEBF-5C28-4E16-86D7-4AA861D3CD0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Gill Sans MT"/>
              </a:rPr>
              <a:t>Five research sub-center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bre Tab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notesel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em Ket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ob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ar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 over 40 trial st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82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990-9DF6-4F9C-9D56-3CFD686838E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ARARI Research Centers byZone Administrative Level"/>
          <p:cNvPicPr/>
          <p:nvPr/>
        </p:nvPicPr>
        <p:blipFill>
          <a:blip r:embed="rId1"/>
          <a:stretch/>
        </p:blipFill>
        <p:spPr>
          <a:xfrm>
            <a:off x="304920" y="914400"/>
            <a:ext cx="6858000" cy="5486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6" descr=""/>
          <p:cNvPicPr/>
          <p:nvPr/>
        </p:nvPicPr>
        <p:blipFill>
          <a:blip r:embed="rId2"/>
          <a:stretch/>
        </p:blipFill>
        <p:spPr>
          <a:xfrm>
            <a:off x="7236000" y="-2430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8C43-5798-4BB2-9C52-05B1FF79620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464653"/>
                </a:solidFill>
                <a:latin typeface="Bookman Old Style"/>
              </a:rPr>
              <a:t>What is the major objective of ARARI?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eneration and adaptation of improved agricultural technolog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onstration and popularization of improved technologies and knowledge to users through pre-extension demonstration, exhibition, field days, training, advice, and public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ltiplication of breeder and pre-s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ordinate the regional agricultural research syst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8EEB-EB32-41E2-99AE-DF1EA29EE98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What are the main water related activit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In-situ rain water harvesting and management for moisture stress areas- 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hillslopes: half moon, trench, eyebrow, an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agricultural bottom lands: tie-ridge, zie p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valuation and demonstration of water harvesting systems –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chnical and socioeconomic evaluation of water harvesting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64640" indent="-212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arative analysis of lining materials for seepage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609-50EF-4B4A-8A8E-9BEA0DC4AB6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Evaluation, verification and demonstration of surface drainage techniques (BBF, BBM, RF) and reuse of drained water for supplemental irrigation in vertisol areas 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Integrated watershed management –WH, SWC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Assessment and management of wetland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53"/>
                </a:solidFill>
                <a:latin typeface="Gill Sans MT"/>
              </a:rPr>
              <a:t>Runoff-rainfall relation, runoff-soil loss</a:t>
            </a: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What are the main water related activitie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467480" y="-3160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AF9-5518-4D36-8F79-CF28AA040C5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Footer Placeholder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Footer Placeholder 5"/>
          <p:cNvSpPr/>
          <p:nvPr/>
        </p:nvSpPr>
        <p:spPr>
          <a:xfrm>
            <a:off x="1692360" y="6356520"/>
            <a:ext cx="68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NBDC N3 Partner Technical Meeting, 28-29 March 2011, Adis Ababa, ILRI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09:47:32Z</dcterms:modified>
  <cp:revision>58</cp:revision>
  <dc:subject/>
  <dc:title>PowerPoint-presentatie</dc:title>
</cp:coreProperties>
</file>